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BF2A-EC14-4AAA-8B23-272891E35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F37C-8C6D-493D-BC98-1325DCD22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300-3E07-49CC-8F66-6110E4BF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CCE-354B-4FD9-9C2C-3DF90411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0E2-7C14-40B1-A6A7-95BA2096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1DA-420A-4FD0-A292-8D6091D7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1DD8-108B-4B47-84A9-B27900D8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6C76-3BE2-4B5C-9F64-6C841248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56FF-5B10-4A40-A99C-5A2F382A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4B51-FD5A-43CA-9AA8-4A05EC57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AB04-48DD-431E-972C-68E22C7F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5202-4F07-42D2-92BA-BEAF10A2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29EC-7613-4F12-9F4D-0B8E38AB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87D-8D4F-4B3F-8E74-45CA2D88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3E96-AAA0-4BCA-A9DA-44E318DA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E213-D554-46BD-A9AB-AD20571E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2D4B-2C9C-435A-8DAD-EAC7B23B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0546-7994-4192-8058-5A10488B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7BEA-A624-4E01-B832-DE751A7C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8F152-32BD-4FEA-814C-A45EAA1F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51386-C4BE-4026-A19A-10E6B1A1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4BBE3-76D2-4F1A-A731-EB7561F6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CDBE4-3790-447A-B607-8E512696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E8751-B801-4D2A-840E-DEEA7361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91B3-CD7E-4593-B06D-ED110254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5C9E1-ADEB-4B50-B544-4D73C5C6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D0B41-F6C8-450A-B3C6-1899E6CD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8E5FE-B9BB-40D0-93C7-AD2CAB68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D6540-49CA-42E9-A76F-C99F5E7E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EF229-4386-4D94-8EF3-ED3830BC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8C66F-FD3A-4231-B9E9-91BEFD3C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9F691-F33E-4A47-8367-5F91335D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2A276-A239-469B-8220-C886B46C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7FFF0-FFB1-4CC0-AB4A-4220331D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EAC2E-F4C2-41EE-83E0-21C63ACE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564-86CB-4351-8385-80B18894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D6FDA-E2F9-4739-B958-094D9C6E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6A356-DC73-4B70-8CE4-9AB36911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837CB-F8C1-45AA-A76E-BD1B94A1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C3D46-67D1-4D41-BB44-D68FC794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B901A-E0F6-4897-A9A3-2D6919E2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68631-3080-4818-8048-06027EFE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3941C-3F1B-4BD4-9D4C-A59593A0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9F23A-48B2-495E-882C-12B28989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9F9F0-B178-4CA6-BE50-F9EAE6B4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2673-AC81-4854-A45B-49D3B31B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2E5A-17AE-4D20-9DD3-01F87DFE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528-F82B-4960-89B6-2DA2B050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A03E-3759-4E96-970F-CB29F7B9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10D-AFE6-4801-8980-B28634C0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1A91-40B9-4B64-B048-F4DA111B77A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CFC4-0028-453F-A17B-51C93064543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2F96-C12D-4AB0-B73B-A3EA4F7C18E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EE85-2C0E-4F33-A673-5DDD700AAD5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231840" y="1365120"/>
            <a:ext cx="8442360" cy="1895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CMP 230 Fall 2008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By: Maryan Clark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Professor John Kauche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Cambridge Colleg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l. Facts about young children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impression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ve a harder time distinguishing between fantasy and rea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not easily discern motives for viol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rn by observing and imitat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Bushman,2001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l. Negative Effects of Media Violenc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. Study conducted by Ronald Slaby, media violence expe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 Encourages violent behavior (aggressor effec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 Increases fearfulness (victim effec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  Leads to callousness, accepting violence as normal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bystander effec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. Builds a desire to watch more violenc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appetite effec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. Article in WebMD News, June 10, 2005 (Brain Activit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  Nonaggressive children had similar patterns of activity in the area of the brain linked to self-control and attention, when exposed to high levels of media violence, as aggressive children who had already been diagnosed with disruptive behavior disord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ll. False messages that media violence send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91320" indent="-3913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olence is often rewarded and seldom has negative consequen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91320" indent="-391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Perpetrators go unpunished in 73% of all violent sce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91320" indent="-391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. Violence is everywhe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91320" indent="-391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Young children often assume that violence is the normal cause of deat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91320" indent="-391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. Violence is justifi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91320" indent="-391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Aggression by “good guys” is rarely punish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91320" indent="-391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Depicts violence by “good guys” as hero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91320" indent="-391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91320" indent="-391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V. BENEFACTOR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. Video Game Indust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 Reached nearly $10.5 billion in sales i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005. (BusinessWeek Online, 2006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. Television/Movie Indust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 Interesting fac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. the majority of all entertain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gramming contains violen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. commercial television for childre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50-60 times more violent than prime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ime programs for adul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990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V. What can be done to minimize effect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40640" indent="-4406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 NOT put video game consoles or computers in children’s roo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0640" indent="-4406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t limits  ( no television or video games before homework is done).                                                                  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0640" indent="-4406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mit game playing tim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0640" indent="-4406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eck the age game ratings and descriptors on the box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0640" indent="-4406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now the shows your children se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0640" indent="-4406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AY AND ENJOY a game with your chil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81080" y="990720"/>
            <a:ext cx="6096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Reference Page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lannery, Daniel J., (2005), Violence and Mental Health in Everyday Life: Prevention and Intervention, Social Science pg 9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ational Institute on Media and the Family, Children and Media Violence Fact She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laby, Ronald, media expert at the Education Development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merican Psychiatric Association, Healthy Minds, Healthy Liv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pperman, Jean, (1997),Children’s Advocate Newsmagazi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bMD News, (2005), Media Violence May Affect Children’s Minds, Toxic Lessons, What Do Children Learn From Media Violen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21:46:54Z</dcterms:created>
  <dc:creator>Guest</dc:creator>
  <dc:description/>
  <dc:language>en-US</dc:language>
  <cp:lastModifiedBy> </cp:lastModifiedBy>
  <dcterms:modified xsi:type="dcterms:W3CDTF">2008-12-07T07:57:54Z</dcterms:modified>
  <cp:revision>3</cp:revision>
  <dc:subject/>
  <dc:title>Children and Media Violence</dc:title>
</cp:coreProperties>
</file>